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B82-CF59-4BB6-92C8-37B1DB0E1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0D3-CD6B-47E7-B81A-0D98B2C4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21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39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21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39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115560"/>
            <a:ext cx="770436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2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vidence-based%20Decision%20Making%20Framework.ppt" TargetMode="External"/><Relationship Id="rId2" Type="http://schemas.openxmlformats.org/officeDocument/2006/relationships/hyperlink" Target="file:///Institutional%20Framework.ppt" TargetMode="External"/><Relationship Id="rId3" Type="http://schemas.openxmlformats.org/officeDocument/2006/relationships/hyperlink" Target="file:///Operational%20Framework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1"/>
          <p:cNvGrpSpPr/>
          <p:nvPr/>
        </p:nvGrpSpPr>
        <p:grpSpPr>
          <a:xfrm>
            <a:off x="1571760" y="5929200"/>
            <a:ext cx="6433560" cy="620640"/>
            <a:chOff x="1571760" y="5929200"/>
            <a:chExt cx="6433560" cy="62064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220840" y="5972040"/>
              <a:ext cx="57844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"/>
            <p:cNvPicPr/>
            <p:nvPr/>
          </p:nvPicPr>
          <p:blipFill>
            <a:blip r:embed="rId2"/>
            <a:stretch/>
          </p:blipFill>
          <p:spPr>
            <a:xfrm>
              <a:off x="1571760" y="592920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flag"/>
          <p:cNvPicPr/>
          <p:nvPr/>
        </p:nvPicPr>
        <p:blipFill>
          <a:blip r:embed="rId3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85560" y="1356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fumo wa Uchambuzi wa Uhakika wa Chakula na Lish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MUCHALI)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85920" y="3500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Tanzania Food Security and Nutrition Analysis Syst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00080" y="4500720"/>
            <a:ext cx="7924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 the Food Security Information Network (FSIN) Consultative Con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Park Hotel, Nairobi, KENYA: 8-9 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Vedasto Rutachokozibwa, FAO/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360-D82B-49FA-A2B5-B7A0942D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604B-3C87-43E2-8F3A-C0865BE6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CHALI CONCEPTUAL FRAMEWORK: 3 PILL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20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 Pi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7B0-A56A-4ED4-96B3-E2684EF6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16000" y="1584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idence-based Decision Making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9480" y="3716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stitutional Framework.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30400" y="540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erational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9320" y="1197000"/>
            <a:ext cx="8140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1: To influence decision making of FS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87480" y="3406680"/>
            <a:ext cx="738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2: Multi-institution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42920" y="5041800"/>
            <a:ext cx="7383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3: Multi-sector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BCC-0AC5-4F48-970F-DA32D7E3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LEMENTATION OF MUCHALI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A7D-B9A7-4BC6-B191-F24F02B0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1197000"/>
            <a:ext cx="7429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4400" y="2286000"/>
            <a:ext cx="80154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 MUCHALI Secretaria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cils’ MUCHLI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 Tanzania Secretariat/ T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0" t="2468" r="43184" b="0"/>
          <a:stretch/>
        </p:blipFill>
        <p:spPr>
          <a:xfrm>
            <a:off x="1357200" y="1000080"/>
            <a:ext cx="692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AF0-C306-4184-96D2-205B1F24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uncil MUCHALI Team: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981000"/>
          <a:ext cx="7315200" cy="5648400"/>
        </p:xfrm>
        <a:graphic>
          <a:graphicData uri="http://schemas.openxmlformats.org/drawingml/2006/table">
            <a:tbl>
              <a:tblPr/>
              <a:tblGrid>
                <a:gridCol w="425520"/>
                <a:gridCol w="5184720"/>
                <a:gridCol w="170496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Planning Officer (DP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e and Livestock Development Officer (DAL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rop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Livestock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Nutri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xtens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ealth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mmunity Development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operativ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Trad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Fisheri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al Statistic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nvironment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Irriga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NGOs working in the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Farmers Groups/Assoc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Agro-Dea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F0D-29F6-4EE1-8112-6AE5188F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A30-6DA6-4E31-BF21-A8A288AB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ownership of MUCH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ALI is endorsed by the Government, Development Partners and the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national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mandate: Prime Minister’s Office (PM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FSN mandate: Ministry of Agriculture (MAF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f FSN professionals at nation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erm training on LFSNA and IPC (around 20-30 multi-sectoral professionals (national, regional – East Africa and SA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8231-5E39-441D-8F30-99C6231E2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MUCHALI to L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ed in Mtwara and Lindi Regions under UNDAF (2007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n LFSNA and IPC for council teams (50 professionals from 12 LGAs in Mtwara and Lindi Reg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FSN data management support (desktop computers to 12 L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LGAs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national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TANDR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3B5-6EDC-46D5-8193-A28FD50BC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9640" y="1052640"/>
            <a:ext cx="845496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GAs in Lindi and Mtwara Regions are able to conduct own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L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LGA Council (highest decision making bo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ALI capacity building activities incorporated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1-2015 UNDAP Programme for Tanzania (US$ 160,000 per year p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GAs annual plans and budgets (ASDP/DAD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DEBC-8B65-43AE-A7BD-8647F2CD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LLENGES/ LESSONS LE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7D3-041D-4771-9BE0-AB804F6C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112392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MUCH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LI Conceptu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/ Lessons lea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6BB-7D85-43E4-8618-B0EE9FF7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57160" y="1928880"/>
            <a:ext cx="81374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fluence (bias) – politics and decision-making on food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quick results vs rigorous evidence-bas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344-BB96-4991-B5E8-296BBAC1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84280" y="1989000"/>
            <a:ext cx="817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for balancing individual institutional mandates and those of MUCHALI are not fully e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.g. critical staffing for FSN activitie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fficient but may not be available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zation of sufficient resources for MUCHALI operations (mainly financial and physical) - still un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938-4652-433D-A94D-F05533BD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28800" y="1714680"/>
            <a:ext cx="8215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data management processes (e.g. collection, storage, access… at national and sub-national lev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database for livelihood systems to support rigorous data capturing for LF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or of tools and generated reports to audience at various levels not fully achieved (e.g. translations into Swahili, briefs, websit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ties to access data and information in the country are 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D61-7529-470C-824E-0CDFDB98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2492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761-4202-4827-815C-D3EE3872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85880" y="1214280"/>
            <a:ext cx="81374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advoc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areness/ sensitization for high level decision makers – national and LGA, private sector and the public to commit resources for support of MUCHALI  programme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protocols/ agreements on the terms of engagement and commitment for MUCHALI programmes and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line MUCHALI work plans to conform to relevant stakeholders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 guidelines for collect, process, analyze, interpret, write reports and disseminate LFS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1071720"/>
            <a:ext cx="8244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velop and consolidate database for livelihood systems to support rigorous data capturing for LFSN and use of IPC protocols to strengthen MUCH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 database on key LFSN at all levels – link through national data systems such as “CountryStat Program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ools and processes for 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capac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capacity of FSN professionals at all levels for MUCHALI data management, analysis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activities under the UNDAP, SADC, I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 MUCHALI TO Produce and disseminate tailor-made FS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0">
              <a:spcBef>
                <a:spcPts val="24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92E-BE65-4954-B923-151D45E0C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ll, national, regional and international support is critically needed t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walk the talk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1D65-4775-4DE1-8619-FC550CD2C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an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7AB-F878-46CD-B7E6-04BD1853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2" descr="flag"/>
          <p:cNvPicPr/>
          <p:nvPr/>
        </p:nvPicPr>
        <p:blipFill>
          <a:blip r:embed="rId1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A18-922B-442D-A58A-56558C2A0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2678040"/>
            <a:ext cx="8294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system's framework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nalysi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s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d security and nutrition data/ informa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1197000"/>
            <a:ext cx="8140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multi-institutional, multi-secto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for food security and nutri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7CDA-8147-4930-B49D-68AE4C67E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07960" y="4437000"/>
            <a:ext cx="8296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UCHALI has adopted the IPC( Integrated Food Security Phase Classification) for analysis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381-2365-49E2-A0E9-FA5A479A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F14-3D9F-4323-8D87-35501CD6B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00080" y="1214280"/>
            <a:ext cx="7929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or199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institutions and agencies conducted independent assessments and produced uncoordinated FSN reports and recommendations for interven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143000" y="3071880"/>
            <a:ext cx="77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0-200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Food Security Information Team (FSIT) was established to coordinate food security assessments, analyses and repor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43000" y="4786200"/>
            <a:ext cx="7786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t FS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d challeng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651-2472-4EE0-8E9E-580D6445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28800" y="1000080"/>
            <a:ext cx="592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 of F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28800" y="1714680"/>
            <a:ext cx="7758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emphasis on food availability: less or no consideration of livelihoods and other food security pillars (e.g. access to food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nalytical linkages between food security and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capacity at the LGAs level for food security and nutri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xplicit linkages between food and nutrition security analysis an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42920" y="542916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s prompting consultations 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review of information systems in Tanzania (2008-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94FD-FC16-4062-AFD2-78E4F058B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928800" y="1000080"/>
            <a:ext cx="8215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nclusions and recommendations from consul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28800" y="2143080"/>
            <a:ext cx="75438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rom existing system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information from multiple sectors: nutrition, markets, agriculture, livestock, fisheries, climate,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tegrated database systems for data collection, storage, access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ter-agency analytical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linkages between council (district) and national 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alytical capacity at LGA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C17-5ABF-40E0-B982-44DC6F52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49320" y="1268280"/>
            <a:ext cx="808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put from consultations evolved into the development of MUCHALI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95280" y="3573360"/>
            <a:ext cx="8288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ed by FAO through the “One UN”  UNDAF Programme for Tanzania (2007-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81120" y="5283360"/>
            <a:ext cx="8002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ed by Nick Haan and Vedasto Rutachokozibwa with technical backstopping of Mark Smu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5:24:59Z</dcterms:created>
  <dc:creator>mclean</dc:creator>
  <dc:description/>
  <dc:language>en-US</dc:language>
  <cp:lastModifiedBy>RUTACHOKOZIBWA</cp:lastModifiedBy>
  <dcterms:modified xsi:type="dcterms:W3CDTF">2011-09-08T20:02:01Z</dcterms:modified>
  <cp:revision>347</cp:revision>
  <dc:subject/>
  <dc:title>Slide 1</dc:title>
</cp:coreProperties>
</file>